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E2BB-4690-4B8F-B8DB-40753163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141E-3DAC-49D9-8AE5-D02134466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0E6B-B591-467B-A0A8-8AB72833B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2B4-51FC-449F-A2C2-75890CDF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086-A112-4FDF-8B90-80058D25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C3F-FF98-469E-B286-C3495DDF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FA3-C827-4D82-A131-D11D4B7A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69D-F26F-4E41-B352-ABB88C2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1DB-2FD9-4933-9748-90127625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636-A43A-40CB-B421-C81A1C46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FC7-EAA9-4159-BB8F-66F5849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AF7-E1E4-4C2A-BB3A-03B62BC5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7FF-C689-4D22-A047-B8BC19F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0D4-1057-4D98-BF0B-51CDBF12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AF2-AB83-40C1-8F59-FD995706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52D4-B791-43BD-9E82-3424282C9E6B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 in the CGIAR Research Progra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9528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1714680" y="2438280"/>
            <a:ext cx="5676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umidtropics: Integrated Systems for the Humid Tr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of the four specific objectives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integrated research program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infed smallholder farming systems in the humid and sub-humid tr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structure is built around the ff. complementary Strategic The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nd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System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ing and Institutional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3"/>
          <p:cNvGrpSpPr/>
          <p:nvPr/>
        </p:nvGrpSpPr>
        <p:grpSpPr>
          <a:xfrm>
            <a:off x="3352680" y="76320"/>
            <a:ext cx="5849280" cy="6705360"/>
            <a:chOff x="3352680" y="76320"/>
            <a:chExt cx="5849280" cy="6705360"/>
          </a:xfrm>
        </p:grpSpPr>
        <p:pic>
          <p:nvPicPr>
            <p:cNvPr id="113" name="Picture 9" descr=""/>
            <p:cNvPicPr/>
            <p:nvPr/>
          </p:nvPicPr>
          <p:blipFill>
            <a:blip r:embed="rId1"/>
            <a:srcRect l="3225" t="11966" r="1613" b="12419"/>
            <a:stretch/>
          </p:blipFill>
          <p:spPr>
            <a:xfrm>
              <a:off x="3352680" y="76320"/>
              <a:ext cx="579132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5"/>
            <p:cNvSpPr/>
            <p:nvPr/>
          </p:nvSpPr>
          <p:spPr>
            <a:xfrm>
              <a:off x="3951000" y="3073320"/>
              <a:ext cx="1119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43720" y="2783160"/>
              <a:ext cx="235548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4582080" y="3967200"/>
              <a:ext cx="1056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entral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5654520" y="3738960"/>
              <a:ext cx="1076400" cy="460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689000" y="1808640"/>
              <a:ext cx="104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4393800" y="2386800"/>
              <a:ext cx="137484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7948440" y="549252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8"/>
            <p:cNvSpPr/>
            <p:nvPr/>
          </p:nvSpPr>
          <p:spPr>
            <a:xfrm rot="17286000">
              <a:off x="8169840" y="4803480"/>
              <a:ext cx="1237680" cy="4647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7143480" y="3805920"/>
              <a:ext cx="1099800" cy="1243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6392160" y="455184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 rot="1655400">
              <a:off x="7331400" y="2421000"/>
              <a:ext cx="606240" cy="151092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7032600" y="1864080"/>
              <a:ext cx="120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ast and Centr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5"/>
          <p:cNvSpPr/>
          <p:nvPr/>
        </p:nvSpPr>
        <p:spPr>
          <a:xfrm>
            <a:off x="380880" y="762120"/>
            <a:ext cx="2971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thern moist sava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farming systems (% of the land area by Dixon classific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eal-root crop mixed (3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crop (26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ze mixed (2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rcRect l="1498" t="3073" r="1519" b="0"/>
          <a:stretch/>
        </p:blipFill>
        <p:spPr>
          <a:xfrm>
            <a:off x="533520" y="9907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35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6-step Model: Translating Research to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2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9716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15-year targets in the Action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staple food yields by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average farm incom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ft 25% of poor households above th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duce the number of malnourished children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Nutrient depletion on 40% of farms reversed to sustainable nutri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1: Dryland System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Agricultural Production Systems for the Poor and Vulnerable in Dry Area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80880" y="5715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 1.1 Action, Satellite and Knowledge Sharing (KSS) Sites in East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0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, energy, water and material resources are being driven towards critical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populatio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onsump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change and environmental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negative 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contribution to natural capital &amp; environment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should consider the trade-offs, local complexities; &amp; the social, economic and politic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ptual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 area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Natural Resources Management (INRM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o-ecological Intensification (A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: CN on SI of maize-legume-livestock integrated farming systems in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cases of projects in 20 countr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ssioned by the UK Gov’t Office of Science Foresight project on Global Food and Farming Futures [Ref: Pretty, Toulmin, &amp; Williams (Eds.). Sustainable intensification: increasing productivity in African food and agricultural systems. Int. J. Agric. Sustainability 9 (1)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ce and farmer inputs into technologies &amp;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social infrastructure that build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farmer knowledge an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private sector for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women’s educational, microfinance, &amp; ag. tech.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availability of microfinance and rural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public sector support for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GIAR 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process will see the operations of the CGIAR implemented through a number Research Programs (C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Ps are the main mechanism by which the CGIAR will achieve the greater alignment of research outputs with the four System Leve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2"/>
          <p:cNvSpPr/>
          <p:nvPr/>
        </p:nvSpPr>
        <p:spPr>
          <a:xfrm>
            <a:off x="83808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70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73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4920" y="53352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Sustainabl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16" descr=""/>
          <p:cNvPicPr/>
          <p:nvPr/>
        </p:nvPicPr>
        <p:blipFill>
          <a:blip r:embed="rId5"/>
          <a:stretch/>
        </p:blipFill>
        <p:spPr>
          <a:xfrm>
            <a:off x="2432160" y="500040"/>
            <a:ext cx="1212840" cy="102384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8"/>
          <p:cNvSpPr/>
          <p:nvPr/>
        </p:nvSpPr>
        <p:spPr>
          <a:xfrm>
            <a:off x="363204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488952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614664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, best management technologies &amp; livestock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90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91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102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2"/>
          <p:cNvSpPr/>
          <p:nvPr/>
        </p:nvSpPr>
        <p:spPr>
          <a:xfrm>
            <a:off x="6248520" y="676440"/>
            <a:ext cx="10760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7391520" y="2130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1447920" y="2133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9625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infall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IT-USER</cp:lastModifiedBy>
  <dcterms:modified xsi:type="dcterms:W3CDTF">2012-02-06T06:31:59Z</dcterms:modified>
  <cp:revision>105</cp:revision>
  <dc:subject/>
  <dc:title>Slide 1</dc:title>
</cp:coreProperties>
</file>